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72B-5D59-48AC-900B-79686A55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BE5-943E-4B0D-A294-0C9CB628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FD2-5EC4-4140-88E2-1B403CF5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A38-E914-428B-995D-EFEC58C5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3FA-7638-44AB-9E57-A0A701E5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47D-1A63-4753-8F43-7728F9AE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ABB-D8F6-4687-80CE-1976D333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B0B-9368-452A-9C1A-588BE0F2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2CF-1A12-4202-A4A8-9B76FE81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A46-79B6-493D-BD1B-87046909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3F9-192A-4C44-8477-16E84AE8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AD8-15F2-44D7-9B07-210B312E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3A07-6DDE-42DF-AD06-EC890BEF7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0:15:29Z</dcterms:created>
  <dc:creator>Martha Maiden</dc:creator>
  <dc:description/>
  <dc:language>en-US</dc:language>
  <cp:lastModifiedBy>Martha Maiden</cp:lastModifiedBy>
  <dcterms:modified xsi:type="dcterms:W3CDTF">2008-01-07T20:16:26Z</dcterms:modified>
  <cp:revision>1</cp:revision>
  <dc:subject/>
  <dc:title>PowerPoint Presentation</dc:title>
</cp:coreProperties>
</file>